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6.gif" ContentType="image/gif"/>
  <Override PartName="/ppt/media/image7.gif" ContentType="image/gif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laser.wav" ContentType="audio/x-wav"/>
  <Override PartName="/ppt/media/image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50FE-6E3B-4B03-972E-A158A860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589-7E8A-4EF6-8B1E-A052F165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A47-2C74-4D83-B2E0-400761B3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576-C866-46D8-9318-7239781E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657-F6DD-4477-A2F2-6D29DD15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F11-425F-4E8C-955E-D4D5EAE1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A2F-3951-4DE9-A2DB-5D834C7D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E82-2458-4501-8C42-DE9D0627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B95-A91F-4DFE-B248-82EEEB5B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168-47D2-410F-8C32-8FC6988C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9CB-88D9-42D2-8C39-A86EFF50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232-26A0-4466-A7DE-D28CEFCC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64C3-5961-4244-9030-333475CE5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6.gif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0.gif"/><Relationship Id="rId1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gif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268280"/>
            <a:ext cx="813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ные уравнения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4941720"/>
            <a:ext cx="424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и: ученики 8 «в»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«Дискриминант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нов А., Мигунов Д., Зайцев Д., Сидоров Е, Иванов Н., Петров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8920" y="3170160"/>
            <a:ext cx="676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91913"/>
                </a:solidFill>
                <a:latin typeface="Arial"/>
              </a:rPr>
              <a:t>Виды квадратных уравн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91913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40000" y="3716280"/>
            <a:ext cx="435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91913"/>
                </a:solidFill>
                <a:latin typeface="Arial"/>
              </a:rPr>
              <a:t>и способы реше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91913"/>
              </a:solidFill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68360" y="5084640"/>
            <a:ext cx="1351080" cy="148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11280" y="404640"/>
            <a:ext cx="80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ложение левой части на множители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56000" y="1484280"/>
                <a:ext cx="3384360" cy="511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516720" y="4221000"/>
            <a:ext cx="298764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000"/>
                            </p:stCondLst>
                            <p:childTnLst>
                              <p:par>
                                <p:cTn id="6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11280" y="404640"/>
            <a:ext cx="80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 выделения полного квадрата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24000" y="1125360"/>
                <a:ext cx="482616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9640" y="2924280"/>
                <a:ext cx="3600720" cy="34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48360" y="2637000"/>
                <a:ext cx="3510000" cy="39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7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7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7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236000" y="5043600"/>
            <a:ext cx="24112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0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2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4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0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2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4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000"/>
                            </p:stCondLst>
                            <p:childTnLst>
                              <p:par>
                                <p:cTn id="6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11280" y="404640"/>
            <a:ext cx="80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язование формул корней квадратного уравнения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556000" y="1268280"/>
                <a:ext cx="453708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дин</m:t>
                        </m:r>
                        <m:r>
                          <m:rPr>
                            <m:lit/>
                            <m:nor/>
                          </m:rPr>
                          <m:t xml:space="preserve">корень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два корня,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т действительных корней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3429000"/>
                <a:ext cx="3024000" cy="23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четное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932360" y="3429000"/>
                <a:ext cx="3166920" cy="24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четное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740720" y="5734080"/>
            <a:ext cx="10191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3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5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7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411280" y="404640"/>
            <a:ext cx="410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95280" y="1628640"/>
                <a:ext cx="417672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 четное число,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253120" y="1628640"/>
                <a:ext cx="363384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четное число,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3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4000"/>
                            </p:stCondLst>
                            <p:childTnLst>
                              <p:par>
                                <p:cTn id="7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116000" y="404640"/>
            <a:ext cx="720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нение теоремы Виета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11280" y="2133720"/>
                <a:ext cx="3673440" cy="33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Если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рни уравнения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076720" y="2133720"/>
                <a:ext cx="3600720" cy="36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Если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рни уравнения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740720" y="5734080"/>
            <a:ext cx="10191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9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1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000"/>
                            </p:stCondLst>
                            <p:childTnLst>
                              <p:par>
                                <p:cTn id="7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9000"/>
                            </p:stCondLst>
                            <p:childTnLst>
                              <p:par>
                                <p:cTn id="8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16000" y="404640"/>
            <a:ext cx="720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едение новой переменной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11280" y="1341360"/>
                <a:ext cx="37432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547640" y="20606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ножим обе части уравнения н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11280" y="2565360"/>
                <a:ext cx="35686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47636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84360" y="3284640"/>
                <a:ext cx="1079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564000" y="32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00720" y="3213000"/>
                <a:ext cx="2447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187280" y="429264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ни уравнения найдем по теореме, обратной теореме Ви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по сумме коэффициентов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627280" y="5157720"/>
                <a:ext cx="316872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740720" y="5734080"/>
            <a:ext cx="10191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1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3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5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7000"/>
                            </p:stCondLst>
                            <p:childTnLst>
                              <p:par>
                                <p:cTn id="8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16000" y="404640"/>
            <a:ext cx="720108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сумме коэффициентов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ного уравнения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9640" y="2060640"/>
                <a:ext cx="37432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640" y="3357720"/>
                <a:ext cx="288000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Если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Если 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2781360"/>
                <a:ext cx="3502080" cy="29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7524720" y="5734080"/>
            <a:ext cx="10191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4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6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116000" y="404640"/>
            <a:ext cx="720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фический способ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203640" y="1197000"/>
                <a:ext cx="28083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9640" y="2276640"/>
                <a:ext cx="11779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692360" y="2349360"/>
            <a:ext cx="67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Графиком функции является параб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39640" y="2997360"/>
                <a:ext cx="14400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979640" y="306864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Графиком функции является прям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573360"/>
            <a:ext cx="87854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100f"/>
                </a:solidFill>
                <a:latin typeface="Arial"/>
              </a:rPr>
              <a:t>Прямая и парабола имеют только одну общую точку, значит уравнение имеет одно ре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00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100f"/>
                </a:solidFill>
                <a:latin typeface="Arial"/>
              </a:rPr>
              <a:t>Прямая и парабола имеют две общие точки, абсциссы этих точек являются корнями квадратного урав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00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100f"/>
                </a:solidFill>
                <a:latin typeface="Arial"/>
              </a:rPr>
              <a:t>Прямая и парабола не имеют общих точек, значит уравнение не имеет кор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6156360" y="5516640"/>
            <a:ext cx="2819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0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2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4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6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3200"/>
                            </p:stCondLst>
                            <p:childTnLst>
                              <p:par>
                                <p:cTn id="111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4200"/>
                            </p:stCondLst>
                            <p:childTnLst>
                              <p:par>
                                <p:cTn id="112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2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V="1">
            <a:off x="6300720" y="21315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1773360"/>
            <a:ext cx="935280" cy="2952720"/>
          </a:xfrm>
          <a:custGeom>
            <a:avLst/>
            <a:gdLst/>
            <a:ahLst/>
            <a:rect l="l" t="t" r="r" b="b"/>
            <a:pathLst>
              <a:path w="544" h="1633">
                <a:moveTo>
                  <a:pt x="544" y="1633"/>
                </a:moveTo>
                <a:cubicBezTo>
                  <a:pt x="483" y="1603"/>
                  <a:pt x="423" y="1573"/>
                  <a:pt x="363" y="1452"/>
                </a:cubicBezTo>
                <a:cubicBezTo>
                  <a:pt x="303" y="1331"/>
                  <a:pt x="241" y="1149"/>
                  <a:pt x="181" y="907"/>
                </a:cubicBezTo>
                <a:cubicBezTo>
                  <a:pt x="121" y="665"/>
                  <a:pt x="30" y="151"/>
                  <a:pt x="0" y="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1771560"/>
            <a:ext cx="936720" cy="2952720"/>
          </a:xfrm>
          <a:custGeom>
            <a:avLst/>
            <a:gdLst/>
            <a:ahLst/>
            <a:rect l="l" t="t" r="r" b="b"/>
            <a:pathLst>
              <a:path w="590" h="1860">
                <a:moveTo>
                  <a:pt x="0" y="1860"/>
                </a:moveTo>
                <a:cubicBezTo>
                  <a:pt x="35" y="1828"/>
                  <a:pt x="143" y="1803"/>
                  <a:pt x="208" y="1665"/>
                </a:cubicBezTo>
                <a:cubicBezTo>
                  <a:pt x="273" y="1527"/>
                  <a:pt x="329" y="1310"/>
                  <a:pt x="393" y="1033"/>
                </a:cubicBezTo>
                <a:cubicBezTo>
                  <a:pt x="457" y="756"/>
                  <a:pt x="558" y="172"/>
                  <a:pt x="590" y="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796000" y="1484280"/>
            <a:ext cx="2881440" cy="2879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164360" y="12682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9080" y="472428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5344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740720" y="35715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029440" y="21315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8770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88000" y="35715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44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588000" y="3571920"/>
            <a:ext cx="11527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00720" y="21319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5052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08720" y="46530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9816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85080" y="465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61080" y="465300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6530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6520" y="465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4221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6160" y="393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6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66160" y="3355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616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6160" y="277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6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6160" y="220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616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678880" y="465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5800" y="14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29440" y="2131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56720" y="2131920"/>
            <a:ext cx="71280" cy="7308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88000" y="3500280"/>
            <a:ext cx="73080" cy="7308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87640" y="476280"/>
                <a:ext cx="237636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611280" y="2565360"/>
            <a:ext cx="4752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00f"/>
                </a:solidFill>
                <a:latin typeface="Arial"/>
              </a:rPr>
              <a:t>Прямая и парабола имеют две общие точки с координатами (-2;4) и (3;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00f"/>
                </a:solidFill>
                <a:latin typeface="Arial"/>
              </a:rPr>
              <a:t>Ответ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2 и 3</a:t>
            </a:r>
            <a:r>
              <a:rPr b="0" lang="en-US" sz="2400" spc="-1" strike="noStrike">
                <a:solidFill>
                  <a:srgbClr val="17100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31040" y="4653000"/>
            <a:ext cx="1812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8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3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2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flipH="1">
            <a:off x="6948000" y="1268280"/>
            <a:ext cx="1008360" cy="4537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524720" y="4797360"/>
            <a:ext cx="1812960" cy="2060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627280" y="189000"/>
                <a:ext cx="261468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1935000" y="-969840"/>
            <a:ext cx="21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83000" y="-960480"/>
          <a:ext cx="215640" cy="517680"/>
        </p:xfrm>
        <a:graphic>
          <a:graphicData uri="http://schemas.openxmlformats.org/drawingml/2006/table">
            <a:tbl>
              <a:tblPr/>
              <a:tblGrid>
                <a:gridCol w="2156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5940360" y="1628640"/>
            <a:ext cx="935280" cy="2952720"/>
          </a:xfrm>
          <a:custGeom>
            <a:avLst/>
            <a:gdLst/>
            <a:ahLst/>
            <a:rect l="l" t="t" r="r" b="b"/>
            <a:pathLst>
              <a:path w="544" h="1633">
                <a:moveTo>
                  <a:pt x="544" y="1633"/>
                </a:moveTo>
                <a:cubicBezTo>
                  <a:pt x="483" y="1603"/>
                  <a:pt x="423" y="1573"/>
                  <a:pt x="363" y="1452"/>
                </a:cubicBezTo>
                <a:cubicBezTo>
                  <a:pt x="303" y="1331"/>
                  <a:pt x="241" y="1149"/>
                  <a:pt x="181" y="907"/>
                </a:cubicBezTo>
                <a:cubicBezTo>
                  <a:pt x="121" y="665"/>
                  <a:pt x="30" y="151"/>
                  <a:pt x="0" y="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77080" y="1627200"/>
            <a:ext cx="936720" cy="2952720"/>
          </a:xfrm>
          <a:custGeom>
            <a:avLst/>
            <a:gdLst/>
            <a:ahLst/>
            <a:rect l="l" t="t" r="r" b="b"/>
            <a:pathLst>
              <a:path w="590" h="1860">
                <a:moveTo>
                  <a:pt x="0" y="1860"/>
                </a:moveTo>
                <a:cubicBezTo>
                  <a:pt x="35" y="1828"/>
                  <a:pt x="143" y="1803"/>
                  <a:pt x="208" y="1665"/>
                </a:cubicBezTo>
                <a:cubicBezTo>
                  <a:pt x="273" y="1527"/>
                  <a:pt x="329" y="1310"/>
                  <a:pt x="393" y="1033"/>
                </a:cubicBezTo>
                <a:cubicBezTo>
                  <a:pt x="457" y="756"/>
                  <a:pt x="558" y="172"/>
                  <a:pt x="590" y="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877080" y="112392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1800" y="45799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165800" y="429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453440" y="34272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7080" y="4290840"/>
            <a:ext cx="2887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77080" y="34275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32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21440" y="4508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088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97800" y="4508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3800" y="450864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84720" y="45086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924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4076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8880" y="378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88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78880" y="3211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788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78880" y="263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8880" y="23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78880" y="205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78880" y="1771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9124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8520" y="126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42160" y="1987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53440" y="3427560"/>
            <a:ext cx="71280" cy="7272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2637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00f"/>
                </a:solidFill>
                <a:latin typeface="Arial"/>
              </a:rPr>
              <a:t>Прямая и парабола имеют одну общую точку с координатами (2;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00f"/>
                </a:solidFill>
                <a:latin typeface="Arial"/>
              </a:rPr>
              <a:t>Ответ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17100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0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58920" y="184464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16360" y="90792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отеза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2276640"/>
            <a:ext cx="74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roadway"/>
              </a:rPr>
              <a:t>Каждый человек, особенно если он ученик 8 класса, может решить квадратное уравнение, если знает ответы на вопросы…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093080" y="189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380360" y="5516640"/>
            <a:ext cx="1019160" cy="933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627280" y="189000"/>
                <a:ext cx="261468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524720" y="4797360"/>
            <a:ext cx="1812960" cy="2060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227640" y="1486080"/>
            <a:ext cx="935280" cy="2952720"/>
          </a:xfrm>
          <a:custGeom>
            <a:avLst/>
            <a:gdLst/>
            <a:ahLst/>
            <a:rect l="l" t="t" r="r" b="b"/>
            <a:pathLst>
              <a:path w="544" h="1633">
                <a:moveTo>
                  <a:pt x="544" y="1633"/>
                </a:moveTo>
                <a:cubicBezTo>
                  <a:pt x="483" y="1603"/>
                  <a:pt x="423" y="1573"/>
                  <a:pt x="363" y="1452"/>
                </a:cubicBezTo>
                <a:cubicBezTo>
                  <a:pt x="303" y="1331"/>
                  <a:pt x="241" y="1149"/>
                  <a:pt x="181" y="907"/>
                </a:cubicBezTo>
                <a:cubicBezTo>
                  <a:pt x="121" y="665"/>
                  <a:pt x="30" y="151"/>
                  <a:pt x="0" y="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64360" y="1484280"/>
            <a:ext cx="936720" cy="2952720"/>
          </a:xfrm>
          <a:custGeom>
            <a:avLst/>
            <a:gdLst/>
            <a:ahLst/>
            <a:rect l="l" t="t" r="r" b="b"/>
            <a:pathLst>
              <a:path w="590" h="1860">
                <a:moveTo>
                  <a:pt x="0" y="1860"/>
                </a:moveTo>
                <a:cubicBezTo>
                  <a:pt x="35" y="1828"/>
                  <a:pt x="143" y="1803"/>
                  <a:pt x="208" y="1665"/>
                </a:cubicBezTo>
                <a:cubicBezTo>
                  <a:pt x="273" y="1527"/>
                  <a:pt x="329" y="1310"/>
                  <a:pt x="393" y="1033"/>
                </a:cubicBezTo>
                <a:cubicBezTo>
                  <a:pt x="457" y="756"/>
                  <a:pt x="558" y="172"/>
                  <a:pt x="590" y="0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579640" y="2707920"/>
            <a:ext cx="2016360" cy="2592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164360" y="98100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9080" y="44370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5052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36572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816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85080" y="4365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436572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72360" y="43657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6520" y="43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4360" y="3933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66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616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616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66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6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66160" y="220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616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616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678880" y="436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165800" y="112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29440" y="184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637000"/>
            <a:ext cx="4681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ая и парабола не имеют общих точек, значит уравнение не имеет действительных 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нет 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0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4" nodeType="after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411280" y="404640"/>
            <a:ext cx="410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1197000"/>
            <a:ext cx="748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roadway"/>
              </a:rPr>
              <a:t>У нас хорошие знания, поэтому мы можем решить любое квадратное уравнение. Мы знаем разные способы решения и можем их применять на практике. Учитесь и вам все будет по силам! Хорошие знания это билет в светлое будуще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5372280"/>
            <a:ext cx="1351080" cy="1485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7451640" y="189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7524720" y="4797360"/>
            <a:ext cx="1812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0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7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9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1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1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39640" y="1125360"/>
            <a:ext cx="720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езные ресурсы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198900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2637000"/>
            <a:ext cx="820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ебра: Учебник для 8 класса, общеобразоват. учреждений/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Ш.А. Алимов, Ю.М. Колягин, Ю.В. Сидоров и др.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ета «Математика»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щенко О.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тематика» 5-9 класс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6084720" y="5084640"/>
            <a:ext cx="2819520" cy="15242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7451640" y="18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0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77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4" dur="770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6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8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3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6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7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484360" y="907920"/>
            <a:ext cx="367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ы...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060640"/>
            <a:ext cx="7129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пределение квадратного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иды квадратных у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ешение квадратных уравн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7451640" y="18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6206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476280"/>
            <a:ext cx="79214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17100f"/>
                </a:solidFill>
                <a:uFillTx/>
                <a:latin typeface="Arial"/>
              </a:rPr>
              <a:t>Квадратные уравнения</a:t>
            </a:r>
            <a:r>
              <a:rPr b="1" lang="en-US" sz="2400" spc="-1" strike="noStrike">
                <a:solidFill>
                  <a:srgbClr val="17100f"/>
                </a:solidFill>
                <a:latin typeface="Arial"/>
              </a:rPr>
              <a:t> - это фундамент, на котором покоится величественное здание алгебры. Квадратные уравнения находят широкое применение при решении тригонометрических, показательных, логарифмических, иррациональных и трансцендентных уравнений и неравенств.</a:t>
            </a:r>
            <a:br>
              <a:rPr sz="2400"/>
            </a:br>
            <a:r>
              <a:rPr b="1" lang="en-US" sz="2400" spc="-1" strike="noStrike">
                <a:solidFill>
                  <a:srgbClr val="17100f"/>
                </a:solidFill>
                <a:latin typeface="Arial"/>
              </a:rPr>
              <a:t>В школьном курсе математики изучают формулы корней квадратных уравнений, с помощью которых можно решать любые квадратные уравнения. Однако имеются и другие способы решения квадратных уравнений, которые позволяют очень быстро и рационально      решать многие уравнения. Разберём      некоторые из них</a:t>
            </a:r>
            <a:r>
              <a:rPr b="0" i="1" lang="en-US" sz="2400" spc="-1" strike="noStrike">
                <a:solidFill>
                  <a:srgbClr val="17100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24480" y="5334120"/>
            <a:ext cx="2819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87280" y="76500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c1e1c"/>
                </a:solidFill>
                <a:latin typeface="Arial"/>
              </a:rPr>
              <a:t>Уравнение вида                           </a:t>
            </a:r>
            <a:r>
              <a:rPr b="1" i="1" lang="en-US" sz="3600" spc="-1" strike="noStrike">
                <a:solidFill>
                  <a:srgbClr val="2c1e1c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2c1e1c"/>
                </a:solidFill>
                <a:latin typeface="Arial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2c1e1c"/>
                </a:solidFill>
                <a:latin typeface="Arial"/>
              </a:rPr>
              <a:t>где    </a:t>
            </a:r>
            <a:r>
              <a:rPr b="1" i="1" lang="en-US" sz="3600" spc="-1" strike="noStrike">
                <a:solidFill>
                  <a:srgbClr val="2c1e1c"/>
                </a:solidFill>
                <a:latin typeface="Arial"/>
              </a:rPr>
              <a:t>-</a:t>
            </a:r>
            <a:r>
              <a:rPr b="1" i="1" lang="ru-RU" sz="3600" spc="-1" strike="noStrike">
                <a:solidFill>
                  <a:srgbClr val="2c1e1c"/>
                </a:solidFill>
                <a:latin typeface="Arial"/>
              </a:rPr>
              <a:t>переменная, </a:t>
            </a:r>
            <a:br>
              <a:rPr sz="3600"/>
            </a:br>
            <a:r>
              <a:rPr b="1" i="1" lang="ru-RU" sz="3600" spc="-1" strike="noStrike">
                <a:solidFill>
                  <a:srgbClr val="2c1e1c"/>
                </a:solidFill>
                <a:latin typeface="Arial"/>
              </a:rPr>
              <a:t>           </a:t>
            </a:r>
            <a:r>
              <a:rPr b="1" i="1" lang="en-US" sz="3600" spc="-1" strike="noStrike">
                <a:solidFill>
                  <a:srgbClr val="2c1e1c"/>
                </a:solidFill>
                <a:latin typeface="Arial"/>
              </a:rPr>
              <a:t>-</a:t>
            </a:r>
            <a:r>
              <a:rPr b="1" i="1" lang="ru-RU" sz="3600" spc="-1" strike="noStrike">
                <a:solidFill>
                  <a:srgbClr val="2c1e1c"/>
                </a:solidFill>
                <a:latin typeface="Arial"/>
              </a:rPr>
              <a:t> некоторые числа, </a:t>
            </a:r>
            <a:br>
              <a:rPr sz="3600"/>
            </a:br>
            <a:r>
              <a:rPr b="1" i="1" lang="ru-RU" sz="3600" spc="-1" strike="noStrike">
                <a:solidFill>
                  <a:srgbClr val="2c1e1c"/>
                </a:solidFill>
                <a:latin typeface="Arial"/>
              </a:rPr>
              <a:t>          </a:t>
            </a:r>
            <a:r>
              <a:rPr b="1" i="1" lang="en-US" sz="3600" spc="-1" strike="noStrike">
                <a:solidFill>
                  <a:srgbClr val="2c1e1c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2c1e1c"/>
                </a:solidFill>
                <a:latin typeface="Arial"/>
              </a:rPr>
              <a:t> называется квадратным уравнением</a:t>
            </a:r>
            <a:r>
              <a:rPr b="0" lang="ru-RU" sz="3600" spc="-1" strike="noStrike">
                <a:solidFill>
                  <a:srgbClr val="2c1e1c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Примеры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76720" y="620640"/>
                <a:ext cx="3384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124000" y="1413000"/>
                <a:ext cx="4557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403280" y="1916280"/>
                <a:ext cx="1224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332000" y="2492280"/>
                <a:ext cx="1152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187280" y="4221000"/>
                <a:ext cx="51120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5334120"/>
            <a:ext cx="2819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500"/>
                            </p:stCondLst>
                            <p:childTnLst>
                              <p:par>
                                <p:cTn id="2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403280" y="404640"/>
            <a:ext cx="62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квадратных уравнений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2205000"/>
            <a:ext cx="3529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ные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ные 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авнения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219640" y="2205000"/>
            <a:ext cx="3529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полные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ные 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авнения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627280" y="1628640"/>
            <a:ext cx="144000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84720" y="1628640"/>
            <a:ext cx="151128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11280" y="3573360"/>
                <a:ext cx="324000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1280" y="5516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еденное квадратное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796000" y="3573360"/>
                <a:ext cx="237636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2" name="" descr=""/>
          <p:cNvPicPr/>
          <p:nvPr/>
        </p:nvPicPr>
        <p:blipFill>
          <a:blip r:embed="rId16"/>
          <a:stretch/>
        </p:blipFill>
        <p:spPr>
          <a:xfrm>
            <a:off x="6324480" y="5589720"/>
            <a:ext cx="2819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11280" y="404640"/>
            <a:ext cx="80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 неполных квадратных уравнений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020000" y="4869000"/>
            <a:ext cx="2411280" cy="1814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932360" y="1628640"/>
                <a:ext cx="2624040" cy="41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÷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9640" y="1700280"/>
                <a:ext cx="3311640" cy="436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rad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55640" y="404640"/>
                <a:ext cx="3024360" cy="590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72000" y="620640"/>
                <a:ext cx="3247920" cy="604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093080" y="5043600"/>
            <a:ext cx="24112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000"/>
                            </p:stCondLst>
                            <p:childTnLst>
                              <p:par>
                                <p:cTn id="4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11280" y="404640"/>
            <a:ext cx="80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решения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ных уравнений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2205000"/>
            <a:ext cx="8569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Разложение левой части на множит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Метод выделения полного квадр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Применение формул корней квадратного        урав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Применение теоремы Ви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Введение новой переменн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По сумме коэффициентов квадратного     урав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c1e1c"/>
                </a:solidFill>
                <a:latin typeface="Arial"/>
              </a:rPr>
              <a:t>Граф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4"/>
          <a:stretch/>
        </p:blipFill>
        <p:spPr>
          <a:xfrm>
            <a:off x="6324480" y="5334120"/>
            <a:ext cx="2819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4:28:23Z</dcterms:created>
  <dc:creator>User</dc:creator>
  <dc:description/>
  <dc:language>en-US</dc:language>
  <cp:lastModifiedBy>Admin</cp:lastModifiedBy>
  <dcterms:modified xsi:type="dcterms:W3CDTF">2011-05-11T14:55:30Z</dcterms:modified>
  <cp:revision>21</cp:revision>
  <dc:subject/>
  <dc:title>Слайд 1</dc:title>
</cp:coreProperties>
</file>